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499A-F14F-4AE7-B51C-082017908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20ED-29D7-40B9-B1D9-DCAE940EA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04B1-8A33-457F-ADD0-6679C8F23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D4A0-FED3-4065-93C9-4FD57D0D3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F4A3-4CB3-49C4-8ED4-7299CD7EC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3C6E-54F3-4890-9035-5A40417E3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F8BE-DE5C-4834-A72F-2EF056DE1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9CB7-FF4C-47C1-919C-F7415497B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7824-AC90-4BD6-9A3B-83E5D54F1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E37A-EC0E-4C3D-995B-D382F179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E58E-0D22-4A31-8DC6-A683F15B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7977-C1CD-4837-BEE5-6491423D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F98DF-1FBC-4C95-B2A5-BC56E9E038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%20título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in%20título-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in%20título-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in%20título-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in%20título-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Sin%20título-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in%20título-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in%20título-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in%20título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in%20título-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in%20título-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in%20título-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in%20título-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in%20título-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in%20títul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7T14:30:45Z</dcterms:created>
  <dc:creator>Grupo Editorial</dc:creator>
  <dc:description/>
  <dc:language>en-US</dc:language>
  <cp:lastModifiedBy>Grupo Editorial</cp:lastModifiedBy>
  <dcterms:modified xsi:type="dcterms:W3CDTF">2001-09-27T14:35:20Z</dcterms:modified>
  <cp:revision>1</cp:revision>
  <dc:subject/>
  <dc:title>Sin título de diapositiva</dc:title>
</cp:coreProperties>
</file>